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344-66A7-414C-94C2-3190351C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19F-2B17-4CDC-92BC-D5DB7E1C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FB6-D89B-4BEB-A40A-6821DB48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300-62DE-4BF4-8383-160FFDC1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F10C-0211-45F1-9958-A423B6E8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6CD-301A-4175-BBAD-1C2A8B3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3C6E-7B0F-4245-B00D-7A156ED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069-F346-419A-B66F-529DE894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3C0B-904F-42FB-8A03-4003285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848-9EAC-46A8-BA12-F4EA791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3EA-F2D4-44DA-8FF0-0F3A58D7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B90-3F74-4C39-8B8C-11FB6722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5FB-748E-42C3-A7F1-A6E2F32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727B-9FAA-4FD8-B59F-9C7942A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DDD-BF95-48C3-9D42-61B61C26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5DB0-E91F-43A2-9D6B-7D06B504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2A7-3C01-4144-A8D0-A58CCBB7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43E9-5456-4F07-97D3-8EDFBE3B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6704-2816-48DF-9FFA-127E3D8C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F921-355B-435F-A3DC-97286624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DF48-00B7-43A9-B3D4-A445EEE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BEB3-E7BE-45A6-84EC-3516DDE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649-C24E-4396-AC45-2AA3632B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A521-D232-4A51-B76B-892794C6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9D51-B60B-445D-A609-0BDCA16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E381-0FA5-4FDC-8974-EF60DF0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7426-FB13-4E34-9B87-A7045CE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DBCD-260B-4745-8B53-910544B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28EE-1FF1-4E09-8DC4-0FC9D07E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2D96-6737-47C3-9961-909D2219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39DA-5823-4F72-AC34-F945B7E9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7AD7C-21DC-4E77-A468-02C0E8B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824F-771B-4469-AFF7-A7233922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F69-8D31-42C1-88ED-EDA3FFA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6AB7-0243-4F2F-85B7-98EDE24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EA1FA-3EB8-48FE-A86B-3A3D0E3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9169B-20C1-4FC8-9CA6-FAB026FA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7B16-8932-4913-89BA-D2A3AD7D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7F12-461C-440E-A2C1-65EA844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8C82-E5DE-42A8-9903-428CAAC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518C-5F99-4BF9-8156-208F54F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C655-AEEB-4EAD-A268-FC3B53E9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8845-8F35-49A1-B513-CBD25B34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0E3-00EA-4DD4-BD6F-783E2F7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EEE-29EC-4073-B999-CD2C8BF1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3B1-0487-4C0D-A042-4161B65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8CC-E218-4916-AAB2-6C1D280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997-317D-48FE-890F-C2DEDCC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AE87-902B-4256-81DA-8A72F75FEDB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2C28-A22E-4D14-944D-3D1C712CBA1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C6B-9F75-4888-BE83-37D7F7F8DE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F22-0C5A-4B72-8019-59D164A54B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 1918-200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a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 where the red army (communists) defended the Bolshevik government from the white army (anti Bolshev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nti Bolshevik authorities app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lshevik gover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3:40:04Z</dcterms:created>
  <dc:creator> </dc:creator>
  <dc:description/>
  <dc:language>en-US</dc:language>
  <cp:lastModifiedBy> </cp:lastModifiedBy>
  <dcterms:modified xsi:type="dcterms:W3CDTF">2010-12-20T14:07:12Z</dcterms:modified>
  <cp:revision>2</cp:revision>
  <dc:subject/>
  <dc:title>MOTHER RUSSIA’S PAST 1918-2000</dc:title>
</cp:coreProperties>
</file>